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68E-2852-439B-AFAB-7D5F9D3C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6AD-37EA-439F-BFA0-6292DB08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FCA92-A6BF-46A7-AA93-06DD20AF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07589-B628-4A98-A236-267B7A88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CCE66-27D8-4629-89C3-9FDB93F7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DE86B-34B6-425B-8819-8D95EFFE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F22EE-A431-4FC4-810E-83B9E5FB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A44D3-1806-481A-BDDE-ACB9B673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B4074-DC6D-4C2F-830F-12223F4E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F7C4A-6E68-4746-95CF-E5874909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4464E-99EA-45EA-89E6-004676B3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7B55C-34EF-4E60-B1FA-C9CD3227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221-6D17-47E8-AD01-8031416A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ECAD9-DBCC-484A-A539-D02187B6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1A44C-6E72-4B78-B5D4-9C759F5E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40874-5C78-4586-B307-17187886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0C247-1DF4-4CBC-B223-2C3FA66E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FAB48-87B2-474A-93D3-48DD687D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916DD-8F43-4201-8C7B-E53EFE8C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1F0E5-9818-4815-A2D9-36ED0926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8718E-9855-473F-B8F4-1312B236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AD6B1-A281-4F1E-955F-FBDBBC84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9A34F-C6BA-4C26-B4A1-B5A25815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6F9-DA43-42AB-8F3C-E37DAE9D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2D0B6-B408-4913-9F0B-B9769EAF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3748DC-B9C5-433F-8660-C8B2EE0A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68395F-CCF9-4BA9-8BF9-F0A12A9F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AB2178-225A-4DCE-95EB-9C625D9E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CB4664-E752-4C5A-8447-9E118A2F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D8C913-467D-434C-BF89-E6957EEC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640009-8B1A-4D7D-94AD-10E2A7DF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58592B-7BC9-4CFC-811E-592DA9E8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4B6FB4-C371-437A-8FFD-A8289F53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DDC8EE-E112-4A4A-ADBC-F2464D7B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509858-3155-46D9-96AD-99A871A8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77FCDA-339A-49F8-93F8-107EAA11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791E04-E149-4379-99A6-C93DFD80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101DE-C9BE-4F4F-B45D-72F290DB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5028B-D130-4277-B167-A55285CB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9B23F-13A8-46CE-87D8-33E75F93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3AEED-A5B1-4F66-B6DD-667EF500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00C53-4E85-4E42-B79D-82A2C62A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514F1-C91D-4F45-95E8-3D5192E7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B3028-A4DC-4D89-B941-174ECC42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649B6-060C-4B69-B94B-C693D90F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A9FA2-4673-4983-9351-35132F4A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E1389-93F6-417C-8A66-8A1A2C0C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85F1B-9559-4173-9C2E-E4F5C3B8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244B6-4690-4CCE-94C1-79F0272A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F2B-5F60-4905-8890-A1335992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F708E-946D-471B-963F-B94030D4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660EC-9752-4007-812E-EF51E5DE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517CF-8E43-4860-AC8A-00444FD1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5A339-D449-4C13-A105-B1D519A2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034FD-1E91-4BE0-94FD-2649EBCD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7376-4C3D-44A5-B921-116803EA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432D0-DAF4-4A01-823D-EF39A6BC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833FB-151A-4F67-AC29-8B840730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E9B04-3A71-4808-9E7B-893E491A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3EDE8-B77B-491F-AE1C-E85080A9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BE8D9-B619-4577-BD8F-C1B9BF53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FF54E-185D-4F8C-8885-36B1A17D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F2A7F-3F50-47DB-ADA2-E2A85E67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784DD-8287-4A66-B961-95CFA1DB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31CEBD-4EB1-47A4-99A3-6860B1F6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86B043-D09E-45CC-BED3-EAF95ABF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DC0-8E1A-46F4-9D2F-0D335CD1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C0CB11-3B0F-42D0-BA2E-581A463C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E4C28-9F98-4391-9C54-71981065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5C21F-2E14-4569-87C8-E9EA8151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876480-B010-442C-95A2-C1F83281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29B2DC-E99C-4DEE-A7DB-16ABA52D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B1D0CF-C5BA-4798-A851-9F535AAA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A3A773-10EA-4BB4-8DBA-F7EFC59E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284603-B048-4E20-B037-CDB214CD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921507-293B-4B5C-B470-74C62C75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DE021D-7A5E-42D1-B722-DD6DFE06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7FD-EA9A-49EC-8345-CBB4EEFF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ABC345-63BD-465B-B57E-3C36F6D9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287AD-CDBA-4F4E-B6C2-61071B78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3C952-84CF-46E0-A3F2-E16738C6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0640A-D7FE-470A-98AD-10BE3DC8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F9EE9-F222-4ED0-B4DB-F81122E3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F63E3-91E7-4CE1-AD68-AFFA49FF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4B2B9-8188-4BC6-9861-310415AF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889AF-2A41-4B0D-9B35-42DC1AB6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A0865-57B9-4AD3-A024-DD521ED5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259AC-1CF1-4D18-A159-AACCAE4F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FC6-C27C-4ADF-B3DC-2DE0D135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FE31E-6DE0-4BD5-9389-E8814455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F6655-DBB1-4351-AB2F-1ADCABCE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1CB883-C483-4A9F-8410-FF831181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1ADB3-93F6-48C3-8804-50F620E3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28306-C520-462F-B44F-7BAA4BE8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566454-770D-45DC-8AAA-A4EA92DB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3F9499-953B-42DD-918A-B6C70EBD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36A0C-3E75-4C45-BA6F-A3CF71FB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D48DC5-F813-4893-8A0B-E136B8E1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B88B5-1351-46E4-BC54-7B1FC55E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568-E0CA-4B9E-B5FC-C07E506C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DFA1B1-EC40-4F1F-A123-FD0C42F0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56187-B9C8-4698-8007-CE5B1945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25C3D-746A-44AA-B146-B930FF10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23F1E0-3B19-416B-861D-DE4E32E0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931F3A-40D7-46F9-B499-30B502EF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52F474-5B5C-40A5-AC98-6EA87EFE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1D2F9-0B5C-4856-B73B-F7D21669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23142F-3A21-49A3-9E45-A4551A0B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655628-8BFA-473C-8400-C0F65840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7EE2D-7764-4575-94BA-E1251185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7CC-E190-4E4A-8168-5FBFA497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BE9A68-D4CF-4D8B-B5FC-3045E97B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24D9DC-C7BC-44CD-B87E-ACE0293D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C1B25C-F3AD-4AE6-B229-3240A8A8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ED03A8-1F16-4302-878E-9B7AA450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FC496C-A19C-43B2-B7BB-B38E55F5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4033D5-80D7-4176-B076-B4D365C3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77A51B-450E-44DA-BE8D-A95A75A8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6A32EF-F1E6-491C-8AAE-F1B858C5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8FB996-0BBD-4BAA-9A54-0BAE70AF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190EC1-11A2-4481-9BE8-1C5DB271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561-6579-428E-8C33-91BC0C76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4B0383-2557-4A8F-878C-0BF7623C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BDFBCE-6002-4C01-9501-C1D97804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C33D1D-0F3A-47B1-963F-4B83B40F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8CD1F6-34BB-4DA9-8E7D-DE32D727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1FB028-7AA2-4DAE-B36C-9CF2AA6B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3C8675-4AA6-4AA8-9975-BDCDF017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4C0B59-CCD4-4599-9EC0-ABAC1DE7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BB438-BBB0-44F6-AA3A-D7F00724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A6306-3617-4D66-A4EE-1A7D1BC1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51892-06C6-44FB-BD90-AE7D6B89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BBD6-AB6B-454B-9864-DCDF273A7B8F}" type="datetime">
              <a:rPr b="0" lang="es-AR" sz="1400" spc="-1" strike="noStrike">
                <a:solidFill>
                  <a:srgbClr val="ffffff"/>
                </a:solidFill>
                <a:latin typeface="Georgi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0DE2-2D32-4D40-BD48-ADBA9F20A0C7}" type="slidenum">
              <a:rPr b="0" lang="es-AR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7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C550-07AD-4ED0-A1F0-781A97634C38}" type="slidenum">
              <a:rPr b="0" lang="es-AR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dt" idx="28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3BD0-8FC8-41F7-9936-862B34144F3A}" type="datetime">
              <a:rPr b="0" lang="es-AR" sz="1400" spc="-1" strike="noStrike">
                <a:solidFill>
                  <a:srgbClr val="ffffff"/>
                </a:solidFill>
                <a:latin typeface="Georgi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ftr" idx="29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B67B-8432-4270-B990-B5DFF4C82663}" type="datetime">
              <a:rPr b="0" lang="es-AR" sz="1400" spc="-1" strike="noStrike">
                <a:solidFill>
                  <a:srgbClr val="ffffff"/>
                </a:solidFill>
                <a:latin typeface="Georgi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2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6FD6-B504-4817-A475-0D33DD499439}" type="slidenum">
              <a:rPr b="0" lang="es-AR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21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6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27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Num" idx="33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3072-8808-40A1-AD79-EB0C17433921}" type="slidenum">
              <a:rPr b="0" lang="es-AR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D674-C45A-4632-ADC2-2928EFB3B68F}" type="datetime">
              <a:rPr b="0" lang="es-AR" sz="1400" spc="-1" strike="noStrike">
                <a:solidFill>
                  <a:srgbClr val="ffffff"/>
                </a:solidFill>
                <a:latin typeface="Georgi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1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Rectángulo"/>
          <p:cNvSpPr/>
          <p:nvPr/>
        </p:nvSpPr>
        <p:spPr>
          <a:xfrm>
            <a:off x="0" y="0"/>
            <a:ext cx="9144000" cy="41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42920" y="414324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4286160" y="3929040"/>
            <a:ext cx="4208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E3ED-1BB9-4787-AFC2-7CB3770FAF01}" type="datetime">
              <a:rPr b="0" lang="es-AR" sz="1400" spc="-1" strike="noStrike">
                <a:solidFill>
                  <a:srgbClr val="ffffff"/>
                </a:solidFill>
                <a:latin typeface="Georgi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09B5-9571-4A38-B495-C1B51E0E3793}" type="datetime">
              <a:rPr b="0" lang="es-AR" sz="1400" spc="-1" strike="noStrike">
                <a:solidFill>
                  <a:srgbClr val="ffffff"/>
                </a:solidFill>
                <a:latin typeface="Georgi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8"/>
          </p:nvPr>
        </p:nvSpPr>
        <p:spPr>
          <a:xfrm>
            <a:off x="8501040" y="628632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0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523A-4F5B-4445-844E-8213511F4D3E}" type="slidenum">
              <a:rPr b="1" lang="es-AR" sz="10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1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8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9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17A5-C8F7-4D8F-A20C-8EEF64DEEFB8}" type="datetime">
              <a:rPr b="0" lang="es-AR" sz="1400" spc="-1" strike="noStrike">
                <a:solidFill>
                  <a:srgbClr val="ffffff"/>
                </a:solidFill>
                <a:latin typeface="Georgi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E807-53F7-4BA5-BBDB-F32F96680E90}" type="slidenum">
              <a:rPr b="0" lang="es-AR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C023-F6FF-421E-8484-FE5EF5481583}" type="datetime">
              <a:rPr b="0" lang="es-AR" sz="1400" spc="-1" strike="noStrike">
                <a:solidFill>
                  <a:srgbClr val="ffffff"/>
                </a:solidFill>
                <a:latin typeface="Georgi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1D12-559C-40B4-AA6F-4FDE34018BC2}" type="slidenum">
              <a:rPr b="0" lang="es-AR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1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7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9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9B50-A276-46A1-A012-9B47E928468F}" type="datetime">
              <a:rPr b="0" lang="es-AR" sz="1400" spc="-1" strike="noStrike">
                <a:solidFill>
                  <a:srgbClr val="ffffff"/>
                </a:solidFill>
                <a:latin typeface="Georgi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6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7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D2D6-76BF-49F5-A51A-51B87786C7A9}" type="slidenum">
              <a:rPr b="0" lang="es-AR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A0AA-11A1-4FFE-B049-5DCDFFC7E67E}" type="datetime">
              <a:rPr b="0" lang="es-AR" sz="1400" spc="-1" strike="noStrike">
                <a:solidFill>
                  <a:srgbClr val="ffffff"/>
                </a:solidFill>
                <a:latin typeface="Georgi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0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10F5-F54F-46F0-8660-1D36AEE6034A}" type="slidenum">
              <a:rPr b="0" lang="es-AR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83B1-838C-4400-8AF3-391F858842DD}" type="datetime">
              <a:rPr b="0" lang="es-AR" sz="1400" spc="-1" strike="noStrike">
                <a:solidFill>
                  <a:srgbClr val="ffffff"/>
                </a:solidFill>
                <a:latin typeface="Georgi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3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5CB5-2519-4CBD-B257-69AEB8B24948}" type="slidenum">
              <a:rPr b="0" lang="es-AR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7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600" spc="-1" strike="noStrike">
                <a:solidFill>
                  <a:srgbClr val="164c6c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11CB-232E-4084-B2F2-5E1FB01D96EB}" type="slidenum">
              <a:rPr b="0" lang="es-AR" sz="1600" spc="-1" strike="noStrike">
                <a:solidFill>
                  <a:srgbClr val="164c6c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7F02-B6BD-486E-99AE-9F0BD161D3BD}" type="datetime">
              <a:rPr b="0" lang="es-AR" sz="1400" spc="-1" strike="noStrike">
                <a:solidFill>
                  <a:srgbClr val="ffffff"/>
                </a:solidFill>
                <a:latin typeface="Georgi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6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1285920" y="4500360"/>
            <a:ext cx="64008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23232"/>
                </a:solidFill>
                <a:latin typeface="Georgia"/>
              </a:rPr>
              <a:t>HUMBERTO J. BERTAZZ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33396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2f2f2"/>
                </a:solidFill>
                <a:latin typeface="Georgia"/>
              </a:rPr>
              <a:t>DDJJ RECTIFICATIVAS EN MENOS DE SEGURIDAD SOCIAL</a:t>
            </a:r>
            <a:br>
              <a:rPr sz="4400"/>
            </a:br>
            <a:r>
              <a:rPr b="0" lang="es-AR" sz="4400" spc="-1" strike="noStrike">
                <a:solidFill>
                  <a:srgbClr val="f2f2f2"/>
                </a:solidFill>
                <a:latin typeface="Georgia"/>
              </a:rPr>
              <a:t>RG 3093</a:t>
            </a:r>
            <a:endParaRPr b="0" lang="en-US" sz="44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7" name="3 CuadroTexto"/>
          <p:cNvSpPr/>
          <p:nvPr/>
        </p:nvSpPr>
        <p:spPr>
          <a:xfrm>
            <a:off x="214200" y="5643720"/>
            <a:ext cx="20718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23232"/>
                </a:solidFill>
                <a:latin typeface="Georgia"/>
              </a:rPr>
              <a:t>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323232"/>
                </a:solidFill>
                <a:latin typeface="Georgia"/>
              </a:rPr>
              <a:t>11/5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2400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164c6c"/>
                </a:solidFill>
                <a:latin typeface="Georgia"/>
              </a:rPr>
              <a:t>Efectos de la fiscalización</a:t>
            </a:r>
            <a:endParaRPr b="0" lang="en-US" sz="44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Georgia"/>
              </a:rPr>
              <a:t>Convalidación del crédito fisc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23232"/>
                </a:solidFill>
                <a:latin typeface="Georgia"/>
              </a:rPr>
              <a:t>Si como resultado de la fiscalización se convalidara el crédito fiscal respectivo.</a:t>
            </a:r>
            <a:endParaRPr b="0" lang="en-US" sz="24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23232"/>
                </a:solidFill>
                <a:latin typeface="Georgia"/>
              </a:rPr>
              <a:t>Se otorgará el trámite de convalidación (Art. 4).</a:t>
            </a:r>
            <a:endParaRPr b="0" lang="en-US" sz="2400" spc="-1" strike="noStrike">
              <a:solidFill>
                <a:srgbClr val="323232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Georgia"/>
              </a:rPr>
              <a:t>Rechazo total o parcial del saldo a fav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23232"/>
                </a:solidFill>
                <a:latin typeface="Georgia"/>
              </a:rPr>
              <a:t>Dictado de resolución de rechazo por juez administrativo competente.</a:t>
            </a:r>
            <a:endParaRPr b="0" lang="en-US" sz="24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23232"/>
                </a:solidFill>
                <a:latin typeface="Georgia"/>
              </a:rPr>
              <a:t>Notificación Art. 100 ley 11683.</a:t>
            </a:r>
            <a:endParaRPr b="0" lang="en-US" sz="24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23232"/>
                </a:solidFill>
                <a:latin typeface="Georgia"/>
              </a:rPr>
              <a:t>Disconformidad recurso de apelación (Art. 74 DR).</a:t>
            </a:r>
            <a:endParaRPr b="0" lang="en-US" sz="24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35" name="3 Marcador de número de diapositiva"/>
          <p:cNvSpPr/>
          <p:nvPr/>
        </p:nvSpPr>
        <p:spPr>
          <a:xfrm>
            <a:off x="8501040" y="6286680"/>
            <a:ext cx="4572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240C-A994-43B9-A751-48F971C1CD7A}" type="slidenum">
              <a:rPr b="1" lang="es-AR" sz="10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164c6c"/>
                </a:solidFill>
                <a:latin typeface="Georgia"/>
              </a:rPr>
              <a:t>Vigencia</a:t>
            </a:r>
            <a:endParaRPr b="0" lang="en-US" sz="48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Georgia"/>
              </a:rPr>
              <a:t>Presentaciones de DDJJ rectificativas efectuadas desde el 1/7/2011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3 Marcador de número de diapositiva"/>
          <p:cNvSpPr/>
          <p:nvPr/>
        </p:nvSpPr>
        <p:spPr>
          <a:xfrm>
            <a:off x="8501040" y="6286680"/>
            <a:ext cx="4572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CD8F-B688-4BF8-8A01-20C78EDC9A0B}" type="slidenum">
              <a:rPr b="1" lang="es-AR" sz="10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164c6c"/>
                </a:solidFill>
                <a:latin typeface="Georgia"/>
              </a:rPr>
              <a:t>Prescripción de la repetición</a:t>
            </a:r>
            <a:endParaRPr b="0" lang="en-US" sz="44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Georgia"/>
              </a:rPr>
              <a:t>Toda acción personal por deuda exigible se prescribe a los 10 años (Art. 4023 Código Civil)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Georgia"/>
              </a:rPr>
              <a:t>Prescripción por excesos en los pagos efectuados por error y con causa: 2 años (Art. 4030 Código Civil Actuación 240/10 (DI ACOT) 1/7/2010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s-AR" sz="3000" spc="-1" strike="noStrike">
                <a:solidFill>
                  <a:srgbClr val="000000"/>
                </a:solidFill>
                <a:latin typeface="Georgia"/>
              </a:rPr>
              <a:t>(causa utilización tardía del beneficio de reducción de contribuciones patronales Art. 2º ley 25250)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3 Marcador de número de diapositiva"/>
          <p:cNvSpPr/>
          <p:nvPr/>
        </p:nvSpPr>
        <p:spPr>
          <a:xfrm>
            <a:off x="8501040" y="6286680"/>
            <a:ext cx="4572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DC58-6004-4BC4-AC08-B37C8630B744}" type="slidenum">
              <a:rPr b="1" lang="es-AR" sz="10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164c6c"/>
                </a:solidFill>
                <a:latin typeface="Georgia"/>
              </a:rPr>
              <a:t>Normas legales</a:t>
            </a:r>
            <a:endParaRPr b="0" lang="en-US" sz="54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 u="sng">
                <a:solidFill>
                  <a:srgbClr val="000000"/>
                </a:solidFill>
                <a:uFillTx/>
                <a:latin typeface="Georgia"/>
              </a:rPr>
              <a:t>Dto. 507/93 (Art. 21 y 22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spcBef>
                <a:spcPts val="70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23232"/>
                </a:solidFill>
                <a:latin typeface="Georgia"/>
              </a:rPr>
              <a:t>Imposibilidad reducción montos DDJJ rectificativas, salvo errores de cálculo (Art. 13 ley 11683).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  <a:p>
            <a:pPr lvl="1" marL="541800" indent="-270000">
              <a:spcBef>
                <a:spcPts val="700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23232"/>
                </a:solidFill>
                <a:latin typeface="Georgia"/>
              </a:rPr>
              <a:t>Aplicación a la cancelación de obligaciones autodeterminadas, de saldos favorables ya acreditados por la AFIP o consignado por el responsable en presentaciones anteriores, en cuanto no resultaren impugnadas (Art. 27 ley 11683).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10" name="3 Marcador de número de diapositiva"/>
          <p:cNvSpPr/>
          <p:nvPr/>
        </p:nvSpPr>
        <p:spPr>
          <a:xfrm>
            <a:off x="8501040" y="6286680"/>
            <a:ext cx="4572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A948-C1D7-4A13-997E-B1D1B707D17C}" type="slidenum">
              <a:rPr b="1" lang="es-AR" sz="10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164c6c"/>
                </a:solidFill>
                <a:latin typeface="Georgia"/>
              </a:rPr>
              <a:t>Alcance </a:t>
            </a:r>
            <a:endParaRPr b="0" lang="en-US" sz="54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Georgia"/>
              </a:rPr>
              <a:t>Procedimiento para la acreditación por parte de la AFIP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Georgia"/>
              </a:rPr>
              <a:t>Posterior utilización de los saldos a favor del empleador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3 Marcador de número de diapositiva"/>
          <p:cNvSpPr/>
          <p:nvPr/>
        </p:nvSpPr>
        <p:spPr>
          <a:xfrm>
            <a:off x="8501040" y="6286680"/>
            <a:ext cx="4572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B7A0-C254-44DF-84EA-40D1E355CA1E}" type="slidenum">
              <a:rPr b="1" lang="es-AR" sz="10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164c6c"/>
                </a:solidFill>
                <a:latin typeface="Georgia"/>
              </a:rPr>
              <a:t>El tema</a:t>
            </a:r>
            <a:endParaRPr b="0" lang="en-US" sz="48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Georgia"/>
              </a:rPr>
              <a:t>Nuevo régimen normativo aplicable en el caso de DDJJ rectificativas de seguridad social, reduciendo montos de dichas obligaciones y resultando un saldo a favor del empleador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3 Marcador de número de diapositiva"/>
          <p:cNvSpPr/>
          <p:nvPr/>
        </p:nvSpPr>
        <p:spPr>
          <a:xfrm>
            <a:off x="8501040" y="6286680"/>
            <a:ext cx="4572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9BBF-3D12-4382-BBCA-EB14FB406879}" type="slidenum">
              <a:rPr b="1" lang="es-AR" sz="10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412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64c6c"/>
                </a:solidFill>
                <a:latin typeface="Georgia"/>
              </a:rPr>
              <a:t>Presentación del contribuyente</a:t>
            </a:r>
            <a:endParaRPr b="0" lang="en-US" sz="40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42920" y="1500120"/>
            <a:ext cx="87868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2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Georgia"/>
              </a:rPr>
              <a:t>DDJJ rectificativas por transferencia electrónica de dato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Georgia"/>
              </a:rPr>
              <a:t>Nota (RG 1128) fundamentando las razones que dieron origen a las rectificativas, solicitando la convalidación de los saldos a favor (dentro de los 2 días posteriores al envío)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Georgia"/>
              </a:rPr>
              <a:t>Acompañar constancias documentales respaldatorias de los hechos alegado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62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Georgia"/>
              </a:rPr>
              <a:t>Ofrecer las restantes medidas probatorias que hagan a su derecho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3 CuadroTexto"/>
          <p:cNvSpPr/>
          <p:nvPr/>
        </p:nvSpPr>
        <p:spPr>
          <a:xfrm>
            <a:off x="285840" y="5072040"/>
            <a:ext cx="8572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000000"/>
                </a:solidFill>
                <a:uFillTx/>
                <a:latin typeface="Georgia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Georgia"/>
              </a:rPr>
              <a:t>El incumplimiento de estos requisitos obstará a la convalidación y disponibilidad del saldo en cu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4 Marcador de número de diapositiva"/>
          <p:cNvSpPr/>
          <p:nvPr/>
        </p:nvSpPr>
        <p:spPr>
          <a:xfrm>
            <a:off x="8501040" y="6286680"/>
            <a:ext cx="4572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4F7F-6366-4992-A0D4-EDDC99FEAFAC}" type="slidenum">
              <a:rPr b="1" lang="es-AR" sz="10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164c6c"/>
                </a:solidFill>
                <a:latin typeface="Georgia"/>
              </a:rPr>
              <a:t>Efectos de la DDJJ rectificativa</a:t>
            </a:r>
            <a:endParaRPr b="0" lang="en-US" sz="40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Georgia"/>
              </a:rPr>
              <a:t>Las DDJJ rectificativas producirán efectos una vez que la AFIP convalide el saldo a favor del contribuyente resultante de las mismas (antes automático)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3 Marcador de número de diapositiva"/>
          <p:cNvSpPr/>
          <p:nvPr/>
        </p:nvSpPr>
        <p:spPr>
          <a:xfrm>
            <a:off x="8501040" y="6286680"/>
            <a:ext cx="4572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76B4-90AA-452B-A606-457F9B3BCC38}" type="slidenum">
              <a:rPr b="1" lang="es-AR" sz="10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164c6c"/>
                </a:solidFill>
                <a:latin typeface="Georgia"/>
              </a:rPr>
              <a:t>DDJJ rectificativa por error</a:t>
            </a:r>
            <a:endParaRPr b="0" lang="en-US" sz="44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Georgia"/>
              </a:rPr>
              <a:t>Caso de DDJJ rectificativa por error en la carga de datos al confeccionarse la original, acreditado en forma fehacient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Georgia"/>
              </a:rPr>
              <a:t>La AFIP, sin más trámite, convalidará el saldo a favor del empleado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Georgia"/>
              </a:rPr>
              <a:t>Acreditación  del crédito fiscal en “cuentas tributarias” (RG 2463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Georgia"/>
              </a:rPr>
              <a:t>Una vez acreditado en CT, el empleador podrá utilizar el mismo para la cancelación de otras obligaciones (F. 399), según se trate de contribuciones o aport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3 Marcador de número de diapositiva"/>
          <p:cNvSpPr/>
          <p:nvPr/>
        </p:nvSpPr>
        <p:spPr>
          <a:xfrm>
            <a:off x="8501040" y="6286680"/>
            <a:ext cx="4572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C717-62ED-4A4E-B4B1-6F3F80C5241F}" type="slidenum">
              <a:rPr b="1" lang="es-AR" sz="10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164c6c"/>
                </a:solidFill>
                <a:latin typeface="Georgia"/>
              </a:rPr>
              <a:t>Facultad AFIP</a:t>
            </a:r>
            <a:endParaRPr b="0" lang="en-US" sz="54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9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Georgia"/>
              </a:rPr>
              <a:t>La convalidación de los saldos a favor del empleador (rectificativas por error)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90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Georgia"/>
              </a:rPr>
              <a:t>No obsta a la determinación de oficio de aportes o contribuciones omitidos, cuando la DDJJ sea impugnable por no representar la realidad constatada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3 Marcador de número de diapositiva"/>
          <p:cNvSpPr/>
          <p:nvPr/>
        </p:nvSpPr>
        <p:spPr>
          <a:xfrm>
            <a:off x="8501040" y="6286680"/>
            <a:ext cx="4572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9E32-4705-4934-95B4-1382C8BFEC16}" type="slidenum">
              <a:rPr b="1" lang="es-AR" sz="10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164c6c"/>
                </a:solidFill>
                <a:latin typeface="Georgia"/>
              </a:rPr>
              <a:t>Fiscalización </a:t>
            </a:r>
            <a:endParaRPr b="0" lang="en-US" sz="54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Georgia"/>
              </a:rPr>
              <a:t>Si de las constancias aportadas surge que la DDJJ rectificativa se generó por un motivo 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Georgia"/>
              </a:rPr>
              <a:t>que no tuviera relación con un error de la carga</a:t>
            </a:r>
            <a:r>
              <a:rPr b="0" lang="es-AR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Georgia"/>
              </a:rPr>
              <a:t>La AFIP podrá disponer una fiscalización que será comunicada al contribuyent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Georgia"/>
              </a:rPr>
              <a:t>Requiriéndose al responsable toda la información que se considere necesaria a los efectos de la correcta determinación de las obligacion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3 Marcador de número de diapositiva"/>
          <p:cNvSpPr/>
          <p:nvPr/>
        </p:nvSpPr>
        <p:spPr>
          <a:xfrm>
            <a:off x="8501040" y="6286680"/>
            <a:ext cx="4572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7DD1-C618-4ACD-BCDB-CB021E38B570}" type="slidenum">
              <a:rPr b="1" lang="es-AR" sz="10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13:14:52Z</dcterms:created>
  <dc:creator>Nancy</dc:creator>
  <dc:description/>
  <dc:language>en-US</dc:language>
  <cp:lastModifiedBy>Nancy</cp:lastModifiedBy>
  <dcterms:modified xsi:type="dcterms:W3CDTF">2011-05-10T14:44:10Z</dcterms:modified>
  <cp:revision>10</cp:revision>
  <dc:subject/>
  <dc:title>DDJJ RECTIFICATIVAS EN MENOS DE SEGURIDAD SOCIAL RG 3093</dc:title>
</cp:coreProperties>
</file>